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7DE7-C46D-4A1F-B225-D92C425A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DB6-FCBF-4C21-947D-84D19916D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5F64-8489-4169-A171-EC8CB476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2856-25F6-4A8B-BE77-334CA5AB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8406-4E4A-44D8-A72D-19CF91038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F374-2A93-4614-9782-7E942479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F09D-6F47-45E3-B21E-B835F736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65B0-B830-413F-AF4D-39F39124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7756-DD86-4BB0-A22A-F2CDF2EA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940E-2A1A-410C-BB1F-DD46E382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9595-8E8E-4065-9B7C-5C52A8A1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FDD-9A3C-4FEB-A1A9-C43CEAF9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0707-62B9-48B5-BAA1-D63BC577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2920-EDDE-4682-9796-1F15B60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3D9A-9F65-4D4F-BD02-0EA8FA039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5B9A-4B0E-4DB2-AC18-650516DBF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8C8C8-9480-4676-9D43-6A7A726C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98A-0F6E-46A3-A330-05D6E0A4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196-D137-4124-AA6C-1D2FA0D0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C54-AF43-4299-90F0-CEA1647D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198-C8D6-49BF-B233-9B070ADF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05B-05FE-4290-9F6E-054C6782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B69-91AC-47C3-A41C-C5982F159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FD52-1E36-454B-BB58-5E758E77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9b4f1b"/>
                </a:gs>
                <a:gs pos="100000">
                  <a:srgbClr val="ff82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A228-5A7C-4B96-A458-F637E9328A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b4f1b"/>
                    </a:gs>
                    <a:gs pos="100000">
                      <a:srgbClr val="ff822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DBC1-7526-4B52-AA11-F85134FEC8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Esteem…What is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Esteem…What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it made of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ypes of Self-este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cret to improving Self-este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80880" y="23623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304920" y="2286000"/>
            <a:ext cx="8381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Become physically f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Learn new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Improve your personal relationsh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Dress well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ets Re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esteem comes from every experience of your lif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you view yourself affects everything you do in lif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elf-esteem gives you a GOOD feeling about yours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self-esteem distorts your view of yoursel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esteem can be im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inal Though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are a unique individual. No one else is like you in the whole world. This makes you special alread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time in this world is limited. Make it happen for you so you leave your mark in histor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f-Esteem…What is it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f-esteem refers to the way we see and think about oursel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5" descr="C:\Program Files\Microsoft Office\Clipart\smbusbas\bd10568_.wmf"/>
          <p:cNvPicPr/>
          <p:nvPr/>
        </p:nvPicPr>
        <p:blipFill>
          <a:blip r:embed="rId1"/>
          <a:stretch/>
        </p:blipFill>
        <p:spPr>
          <a:xfrm>
            <a:off x="4824360" y="2133720"/>
            <a:ext cx="3152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lf-Esteem…What</a:t>
            </a: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 it made of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ur self-esteem is made up of all the experiences and interpersonal relationships you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 had in your life. Everyone you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 ever met has added to or taken away from how you see yourself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5" descr="C:\Program Files\Common Files\Microsoft Shared\Clipart\cagcat50\bd05545_.wmf"/>
          <p:cNvPicPr/>
          <p:nvPr/>
        </p:nvPicPr>
        <p:blipFill>
          <a:blip r:embed="rId1"/>
          <a:stretch/>
        </p:blipFill>
        <p:spPr>
          <a:xfrm>
            <a:off x="4495680" y="2317680"/>
            <a:ext cx="38102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ffects of High Self-Estee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with high self-esteem possess the following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like to meet new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do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worry about how others will judge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have the courage to express themsel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ir lives are enriched with each new encoun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609480" y="2514600"/>
            <a:ext cx="7162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are nicer to be arou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ir ideas are met with interest because others want to hear what they have to s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are magnets to positive opportuniti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09480" y="5715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with high self-esteem have an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think I ca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ttitu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Effects of Low Self-Esteem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ople with low self-esteem possess the following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don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believe in themselv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see themselves failing before they begi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have a hard time forgiving their mistakes and make themselves pay the price forev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believe they can never be as good as they should be or as oth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533520" y="2362320"/>
            <a:ext cx="75438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are afraid to show their creativity because they will be ridicu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are dissatisfied with their l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spend most of their time al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complain and criticiz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They worry about everything and do no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609588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ople with low self-esteem have an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 can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 do it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attitu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12 Steps to High Self-Este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Forgive yourself for past mistak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Focus on your positive attrib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Follow the example of successful peop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Become a self talk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457200" y="2362320"/>
            <a:ext cx="83059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Exhibit a good attitu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Get plenty of r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Make your work skills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ep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Practice your tal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5:20:52Z</dcterms:created>
  <dc:creator>LRomero</dc:creator>
  <dc:description/>
  <dc:language>en-US</dc:language>
  <cp:lastModifiedBy>Staff</cp:lastModifiedBy>
  <dcterms:modified xsi:type="dcterms:W3CDTF">2017-06-30T18:58:33Z</dcterms:modified>
  <cp:revision>29</cp:revision>
  <dc:subject/>
  <dc:title>SELF-ESTEEM</dc:title>
</cp:coreProperties>
</file>